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EC87-1422-4A6C-A747-F2C489C05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054-6EE3-49E0-B4C1-FC3B0680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1F3-5354-4EE3-A1BF-7BC49B6A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78C-28CD-4555-ACB4-AAAB0F90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828A-2207-436D-9B53-BA1F5BD2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CE21-C5FC-48A0-A655-42E21328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F18F-C870-4068-882D-D2EFAEA3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2951-42F6-4335-87C5-29948FBA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CB7A-600E-4CB6-94D9-E0422CA6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7A12-7A3E-4ECA-83A5-A43AF350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6C23-04A5-499E-B1FD-9ED97EA7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EDB2-5BFC-4C20-AFE8-437DA1E9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356-5F2D-4039-8D3C-98DC2A46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9A27-3DFC-46D4-AE44-4D3F938F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370E-ADCD-402F-808F-BFBC650E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D9E2-8356-4290-91E8-284BC5D2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FE7E-79AC-483E-B3AC-01FD3F57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BDE3-9FA6-4169-92F4-B21E725B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1E0-32A6-45D4-A26C-14C0968F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290-06E0-476F-99A3-CF02D758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B3D-B01D-4C96-9AB7-BE7E15F0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90E-3CD3-42B4-85E1-C9F6BD60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A64-AAF9-4AB9-986F-B449EC6C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EC1-C9E8-466E-AAEA-57DA2694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98C-3CF7-4AB9-B0AB-74ABE395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9ADB-F0B7-4EC6-8A7F-B5B0C73CF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CF14-A4C1-441A-A5D0-20DB35467DE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Scientific Metho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ntrols and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cientific Experiments Follow Ru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experimente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nges one factor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serves or measure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happe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professor7"/>
          <p:cNvPicPr/>
          <p:nvPr/>
        </p:nvPicPr>
        <p:blipFill>
          <a:blip r:embed="rId1"/>
          <a:stretch/>
        </p:blipFill>
        <p:spPr>
          <a:xfrm>
            <a:off x="5068800" y="2498760"/>
            <a:ext cx="3886200" cy="3093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The Control Variab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experimenter makes a special effort to keep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factors constan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o that they will not effect the outcom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ose factors are called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ntrol variables.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What is the Purpose of a Control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709720"/>
            <a:ext cx="77724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used for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MPARIS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Other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factor that is changed is known as th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actor that is measured or observed is called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xample of Controls &amp;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ppose you want to figure out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astest rou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walk home from schoo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try several different routes an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me how long it tak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to get home by each on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you are only interested in finding a route that is fastest for you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will do the walking your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 are the Variables in Your Experim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rying the route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ime it takes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eeping the same walker throughout makes the walker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trol variabl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One more thing… it is best to make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everal trials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with each independent variable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Valid Experiment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ember: To be a Valid Experimen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wo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required --- the control &amp; experimental grou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should be on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n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vari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teps in 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j0076135"/>
          <p:cNvPicPr/>
          <p:nvPr/>
        </p:nvPicPr>
        <p:blipFill>
          <a:blip r:embed="rId1"/>
          <a:stretch/>
        </p:blipFill>
        <p:spPr>
          <a:xfrm>
            <a:off x="1182600" y="2692440"/>
            <a:ext cx="381024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ntitati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numbers) o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lita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6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st be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organiz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be organized int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harts, tables, or graph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Conclu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415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nsw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the hypothesis based on the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ata obtained from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6" descr="bs01344_"/>
          <p:cNvPicPr/>
          <p:nvPr/>
        </p:nvPicPr>
        <p:blipFill>
          <a:blip r:embed="rId1"/>
          <a:stretch/>
        </p:blipFill>
        <p:spPr>
          <a:xfrm>
            <a:off x="5145120" y="2435400"/>
            <a:ext cx="3809880" cy="32781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etes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order t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erify the 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experiments must be retested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Review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olving a Probl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4419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Stat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bservati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ypothes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 (if…the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) Design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xperiment to test the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) Collect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)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6" descr="j0076187"/>
          <p:cNvPicPr/>
          <p:nvPr/>
        </p:nvPicPr>
        <p:blipFill>
          <a:blip r:embed="rId1"/>
          <a:stretch/>
        </p:blipFill>
        <p:spPr>
          <a:xfrm>
            <a:off x="5210280" y="2017800"/>
            <a:ext cx="3679560" cy="41148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thered through you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cientist notices something in thei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atur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430704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 an observ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noticing that many salamanders near a pond have curved, not straight, 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uggested solution to the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metimes written as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f…Then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dic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 of a hypothes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that the salamanders have curved tails due to a pollutant in the moist soil where they l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rocedure to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es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hypothesi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factor in the experiment that is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good or “valid” experiment will only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NE variable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3:26:13Z</dcterms:created>
  <dc:creator>Cheryl Massengale</dc:creator>
  <dc:description/>
  <dc:language>en-US</dc:language>
  <cp:lastModifiedBy>LEGION</cp:lastModifiedBy>
  <dcterms:modified xsi:type="dcterms:W3CDTF">2016-12-07T09:22:17Z</dcterms:modified>
  <cp:revision>10</cp:revision>
  <dc:subject/>
  <dc:title>Scientific Method</dc:title>
</cp:coreProperties>
</file>